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F52-6F47-475E-80B0-7BA372F4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326-C729-43CB-84C0-20C00BE4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D75-1F9E-48F6-A077-A23F6DB5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209-E50A-4C13-8646-FA9C6F24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1CD-F066-4E62-893E-308CDBC3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E86-3A02-406A-812A-93384495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16A-1F4D-4F27-BCFA-BF447F75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6B2-99E3-4D6A-8B6D-E66D4913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171-9C34-463A-B831-7119DAE0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1BE-3FDD-4056-8BD5-DEB571FF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EF3-8CA0-4CD4-9451-5EEC7B7B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363-5301-4674-AB41-4653AA41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E80C-6D00-4C74-93DC-FEF6E78A9A3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19051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324480" y="152280"/>
            <a:ext cx="175284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13160" y="152280"/>
            <a:ext cx="184464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380880" y="2514600"/>
            <a:ext cx="1495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esenta:  </a:t>
            </a:r>
            <a:endParaRPr b="0" lang="en-US" sz="2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676520"/>
            <a:ext cx="253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iceministerio de Desarrollo R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52388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gencia Suiza para el Desarrollo y la Co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160020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omoción al Desarrollo Económico R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5638680"/>
            <a:ext cx="7197480" cy="9169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Paz: Ecuador No 2186 piso 2- telefax 24124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-mail: pader@ceibo.entelnet.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ttp://www.municipio-productivo-pad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3200400"/>
            <a:ext cx="76960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unicipio Productivo con Equidad de Género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4495680"/>
            <a:ext cx="8153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Primer Curso: Municipio Productivo y Promoción Económica</a:t>
            </a:r>
            <a:endParaRPr b="0" lang="en-US" sz="32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25909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800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449280"/>
                <a:tab algn="l" pos="898560"/>
                <a:tab algn="l" pos="490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49280"/>
                <a:tab algn="l" pos="898560"/>
                <a:tab algn="l" pos="490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276720"/>
            <a:ext cx="1143000" cy="8380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a l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3196200">
            <a:off x="971640" y="4552920"/>
            <a:ext cx="799920" cy="457200"/>
          </a:xfrm>
          <a:custGeom>
            <a:avLst/>
            <a:gdLst>
              <a:gd name="textAreaLeft" fmla="*/ 140040 w 799920"/>
              <a:gd name="textAreaRight" fmla="*/ 579960 w 7999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156800">
            <a:off x="1143000" y="2133360"/>
            <a:ext cx="685800" cy="571320"/>
          </a:xfrm>
          <a:custGeom>
            <a:avLst/>
            <a:gdLst>
              <a:gd name="textAreaLeft" fmla="*/ 119880 w 685800"/>
              <a:gd name="textAreaRight" fmla="*/ 497160 w 68580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1905120"/>
            <a:ext cx="175248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brevi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1905120"/>
            <a:ext cx="16002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guridad Al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1905120"/>
            <a:ext cx="16002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foque de Gé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724280"/>
            <a:ext cx="16002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ana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4724280"/>
            <a:ext cx="160020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foqu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é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724280"/>
            <a:ext cx="1600200" cy="83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ción de exce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76720"/>
            <a:ext cx="1600200" cy="8380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mili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528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286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71360" y="533520"/>
            <a:ext cx="7031160" cy="94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Lucha Contra la Pobreza y el Enfoque de Gé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67160" y="661356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PADER-COS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1981080"/>
            <a:ext cx="8153640" cy="4313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1.- Qué actividades productivas desempeñan las muje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2.- A qué rubro corresponden estas activida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3.- Qué actividades desempeña en esta actividad productiv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4.- Esta actividad productiva esta orientada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57200"/>
            <a:ext cx="78487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eguntas para determinar si es posible y oportuno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adyuvar a la generación de ganancias de las mujeres a través del Municipio Produc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685800"/>
            <a:ext cx="8153280" cy="549936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olo autoconsumo familiar (actividad tradicional como la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gricul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olo generación de ingresos (venta, comercializ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ctividad tradicional  / actividad innovad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utoconsumo familiar y ganancia de ingresos con la mis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ctividad produ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utoconsumo familiar y desempeño de otra actividad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roductiva que me permite generar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590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Q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533520"/>
            <a:ext cx="7620120" cy="629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5.- Es posible realizar tanto actividades productivas de autoconsumo como de generación de ingresos sin que esto provoque el descuido de alguna de ellas o conlleve problemas familiares/soci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, ¿Por qué? (Proble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i, ¿Cómo? (Estrateg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6.- ¿Cómo podemos apoyar a  que las mujeres generen ingresos a través de sus actividades productivas (sean estas de autoconsumo o innovadoras), en función al enfoque de gén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457200"/>
            <a:ext cx="7010280" cy="16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Qué entendemos por Municipio Productivo con Equidad de Gén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2057400"/>
            <a:ext cx="7467840" cy="438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 Municipio Productivo con Equidad de Géner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s aquel en el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ual hombres y mujeres tienen iguales oportunidad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y 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pacidades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ara obtener un empleo digno y un ingreso que les permita satisfacer sus necesidades y mejorar sus condiciones de vid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sta mejora en la calidad de vida esta relacionada con el incremento de los niveles de inversión privada y pública, destinadas a aprovechar el potencial del municipio y las oportunidades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096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¿Qué necesitamos para construir un Municipio Productivo con Equidad de Géne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67160" y="661356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PADER-COS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1814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1728720" cy="1833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867280" y="3352680"/>
            <a:ext cx="1992600" cy="1700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480" y="304920"/>
            <a:ext cx="8077320" cy="16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rte 4: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ómo Construir un Mucipio Productivo con Equidad de Gé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457200"/>
            <a:ext cx="8077320" cy="105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Ámbitos de acción para la equidad en OPORTUN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057400"/>
            <a:ext cx="7162560" cy="356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líticas, normas, estrategias, proyect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s de equidad de género en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moción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spectos leg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67160" y="661356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PADER-COS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5680" y="7621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7800" y="457200"/>
            <a:ext cx="746856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Ámbitos de acción para la equidad en CAPA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981080"/>
            <a:ext cx="5410440" cy="33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uto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lidad organiz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pacidad en la produ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pacidad de negoc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alidad represen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67160" y="661356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PADER-COS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67160" y="661356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PADER-COS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04920"/>
            <a:ext cx="7696080" cy="106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ómo promover la equidad en estas capacidades y oportunidades entre hombres y mujeres a través del Enfoque de Municipio Productiv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33520" y="1523880"/>
          <a:ext cx="7543800" cy="5105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5438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" y="423720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0" y="5119560"/>
            <a:ext cx="9144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40" y="8061480"/>
            <a:ext cx="914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57200"/>
            <a:ext cx="7467840" cy="135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través de seis pasos im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82880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ulsando la participación de las mujeres productoras en la Construcción de una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sión Compartid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l Desarrollo Económico del Municipi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31240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ulsando la participación de las mujeres en espacios de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rtación Público-Privado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ra la Promoción Económica del Municipi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464832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.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mpulsando que el Gobierno Municipal asuma un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ol promotor en la equidad de géner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n el marco de la Promoción Económica Muni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666880"/>
            <a:ext cx="7543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1828800" cy="1771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1175040" cy="1838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95880" y="2514600"/>
            <a:ext cx="2514600" cy="2435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5880" y="52578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5029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343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Difer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 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676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Diferencia entre Género y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228600"/>
            <a:ext cx="5943600" cy="123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Parte 1: Marco Conceptual de Gé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" y="-1562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6765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Impulsando que el Gobierno Municipal tenga l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pacidad de Gest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ra empujar acciones de equidad de Género en el marco de la Promoción Económica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97180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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ogrando que los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gentes Económicos Privados asuman un rol protagóni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n la operativización de la equidad de género en el marco de la Promoción Econ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4956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ulsando la participación de mujeres productoras en la elaboración de una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enda de Responsabilidad Compartid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ra la Promoción Económica e incorporando las demandas y potencialidades  de las mujeres productor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04920"/>
            <a:ext cx="7467480" cy="135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través de seis pasos im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" y="-1562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228600"/>
          <a:ext cx="8610480" cy="6386400"/>
        </p:xfrm>
        <a:graphic>
          <a:graphicData uri="http://schemas.openxmlformats.org/drawingml/2006/table">
            <a:tbl>
              <a:tblPr/>
              <a:tblGrid>
                <a:gridCol w="1828800"/>
                <a:gridCol w="762120"/>
                <a:gridCol w="761760"/>
                <a:gridCol w="685800"/>
                <a:gridCol w="304920"/>
                <a:gridCol w="304920"/>
                <a:gridCol w="304560"/>
                <a:gridCol w="304920"/>
                <a:gridCol w="1066680"/>
                <a:gridCol w="563760"/>
                <a:gridCol w="627120"/>
                <a:gridCol w="10951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on compart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L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 del GM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 de Gestion del 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 de los A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 - P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rtante en Cap. Y Opo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estim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idad Organiz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 en la 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 de Negoci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 Represen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ORTUN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ticas y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g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162600" cy="3162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13716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304920"/>
            <a:ext cx="67057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Construcción de los roles - identidad de Gé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1676520"/>
            <a:ext cx="41907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Hojas: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on las prácticas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ronco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Son las instituciones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aíces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Son las actitudes y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182880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58128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95288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6765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o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228600"/>
            <a:ext cx="472464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Género y División Sexual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600200"/>
            <a:ext cx="8001000" cy="27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ol Reproductivo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Rol Pro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ol de Gestión Comu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89064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5880" y="1981080"/>
            <a:ext cx="2232000" cy="224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429000" y="4572000"/>
            <a:ext cx="1820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" y="-10382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Ejemplo:  Producción de fibra de ll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1143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380880"/>
            <a:ext cx="6248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Valorización de roles según la división sexual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905120"/>
            <a:ext cx="7315200" cy="43214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Quien lo hace? (Hombre-Muj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argo-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Remu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Horas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4572000"/>
            <a:ext cx="15238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2133720"/>
            <a:ext cx="571680" cy="228600"/>
          </a:xfrm>
          <a:prstGeom prst="rightArrow">
            <a:avLst>
              <a:gd name="adj1" fmla="val 50000"/>
              <a:gd name="adj2" fmla="val 62520"/>
            </a:avLst>
          </a:prstGeom>
          <a:solidFill>
            <a:srgbClr val="cce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800600"/>
            <a:ext cx="571320" cy="228600"/>
          </a:xfrm>
          <a:prstGeom prst="rightArrow">
            <a:avLst>
              <a:gd name="adj1" fmla="val 50000"/>
              <a:gd name="adj2" fmla="val 62480"/>
            </a:avLst>
          </a:prstGeom>
          <a:solidFill>
            <a:srgbClr val="cce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1600200"/>
            <a:ext cx="3581280" cy="160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n términos absolutos se refiere al bienestar material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267080"/>
            <a:ext cx="350496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iene que ver con la estructura del poder al interior de una organización o grupo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3200400"/>
            <a:ext cx="14479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it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276720"/>
            <a:ext cx="228600" cy="68580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1600200"/>
            <a:ext cx="571320" cy="571680"/>
          </a:xfrm>
          <a:custGeom>
            <a:avLst/>
            <a:gdLst>
              <a:gd name="textAreaLeft" fmla="*/ 99720 w 571320"/>
              <a:gd name="textAreaRight" fmla="*/ 414360 w 57132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724280"/>
            <a:ext cx="571680" cy="571680"/>
          </a:xfrm>
          <a:custGeom>
            <a:avLst/>
            <a:gdLst>
              <a:gd name="textAreaLeft" fmla="*/ 100080 w 571680"/>
              <a:gd name="textAreaRight" fmla="*/ 414720 w 57168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71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28600"/>
            <a:ext cx="81532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ituación de la mujer en el desarrollo económico ru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 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981080"/>
            <a:ext cx="152388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304920"/>
            <a:ext cx="5867640" cy="132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Definición de Equidad de Gé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527120"/>
            <a:ext cx="5181480" cy="50338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 tratados de forma equitativa  quiere decir que cada uno recibe sin discriminaciones lo que le corresponde, de acuerdo a sus necesidades y requerimientos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quidad de Géner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mplica la aplicación de políticas, programas y proyectos de acción afirmativa a favor de las mujeres, para mejorar su situación y poder de esta manera impulsar una verdadera igualdad entre hombres y muj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5760" y="3430440"/>
            <a:ext cx="6480" cy="16200"/>
          </a:xfrm>
          <a:custGeom>
            <a:avLst/>
            <a:gdLst/>
            <a:ahLst/>
            <a:rect l="l" t="t" r="r" b="b"/>
            <a:pathLst>
              <a:path w="8" h="21">
                <a:moveTo>
                  <a:pt x="8" y="8"/>
                </a:moveTo>
                <a:lnTo>
                  <a:pt x="8" y="12"/>
                </a:lnTo>
                <a:lnTo>
                  <a:pt x="7" y="15"/>
                </a:lnTo>
                <a:lnTo>
                  <a:pt x="5" y="19"/>
                </a:lnTo>
                <a:lnTo>
                  <a:pt x="2" y="21"/>
                </a:lnTo>
                <a:lnTo>
                  <a:pt x="0" y="21"/>
                </a:lnTo>
                <a:lnTo>
                  <a:pt x="0" y="0"/>
                </a:lnTo>
                <a:lnTo>
                  <a:pt x="4" y="0"/>
                </a:lnTo>
                <a:lnTo>
                  <a:pt x="6" y="1"/>
                </a:lnTo>
                <a:lnTo>
                  <a:pt x="8" y="5"/>
                </a:lnTo>
                <a:lnTo>
                  <a:pt x="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6160" y="2789280"/>
            <a:ext cx="41400" cy="28440"/>
          </a:xfrm>
          <a:custGeom>
            <a:avLst/>
            <a:gdLst/>
            <a:ahLst/>
            <a:rect l="l" t="t" r="r" b="b"/>
            <a:pathLst>
              <a:path w="53" h="36">
                <a:moveTo>
                  <a:pt x="53" y="6"/>
                </a:moveTo>
                <a:lnTo>
                  <a:pt x="45" y="6"/>
                </a:lnTo>
                <a:lnTo>
                  <a:pt x="37" y="7"/>
                </a:lnTo>
                <a:lnTo>
                  <a:pt x="30" y="10"/>
                </a:lnTo>
                <a:lnTo>
                  <a:pt x="23" y="14"/>
                </a:lnTo>
                <a:lnTo>
                  <a:pt x="17" y="17"/>
                </a:lnTo>
                <a:lnTo>
                  <a:pt x="11" y="23"/>
                </a:lnTo>
                <a:lnTo>
                  <a:pt x="5" y="29"/>
                </a:lnTo>
                <a:lnTo>
                  <a:pt x="0" y="36"/>
                </a:lnTo>
                <a:lnTo>
                  <a:pt x="1" y="25"/>
                </a:lnTo>
                <a:lnTo>
                  <a:pt x="4" y="17"/>
                </a:lnTo>
                <a:lnTo>
                  <a:pt x="11" y="9"/>
                </a:lnTo>
                <a:lnTo>
                  <a:pt x="22" y="3"/>
                </a:lnTo>
                <a:lnTo>
                  <a:pt x="30" y="2"/>
                </a:lnTo>
                <a:lnTo>
                  <a:pt x="39" y="0"/>
                </a:lnTo>
                <a:lnTo>
                  <a:pt x="48" y="1"/>
                </a:lnTo>
                <a:lnTo>
                  <a:pt x="5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2880" y="2617920"/>
            <a:ext cx="73080" cy="23760"/>
          </a:xfrm>
          <a:custGeom>
            <a:avLst/>
            <a:gdLst/>
            <a:ahLst/>
            <a:rect l="l" t="t" r="r" b="b"/>
            <a:pathLst>
              <a:path w="91" h="31">
                <a:moveTo>
                  <a:pt x="91" y="9"/>
                </a:moveTo>
                <a:lnTo>
                  <a:pt x="81" y="9"/>
                </a:lnTo>
                <a:lnTo>
                  <a:pt x="70" y="9"/>
                </a:lnTo>
                <a:lnTo>
                  <a:pt x="59" y="11"/>
                </a:lnTo>
                <a:lnTo>
                  <a:pt x="48" y="12"/>
                </a:lnTo>
                <a:lnTo>
                  <a:pt x="38" y="14"/>
                </a:lnTo>
                <a:lnTo>
                  <a:pt x="30" y="16"/>
                </a:lnTo>
                <a:lnTo>
                  <a:pt x="23" y="20"/>
                </a:lnTo>
                <a:lnTo>
                  <a:pt x="19" y="24"/>
                </a:lnTo>
                <a:lnTo>
                  <a:pt x="13" y="31"/>
                </a:lnTo>
                <a:lnTo>
                  <a:pt x="0" y="23"/>
                </a:lnTo>
                <a:lnTo>
                  <a:pt x="3" y="15"/>
                </a:lnTo>
                <a:lnTo>
                  <a:pt x="13" y="8"/>
                </a:lnTo>
                <a:lnTo>
                  <a:pt x="26" y="4"/>
                </a:lnTo>
                <a:lnTo>
                  <a:pt x="41" y="0"/>
                </a:lnTo>
                <a:lnTo>
                  <a:pt x="57" y="0"/>
                </a:lnTo>
                <a:lnTo>
                  <a:pt x="72" y="1"/>
                </a:lnTo>
                <a:lnTo>
                  <a:pt x="84" y="4"/>
                </a:lnTo>
                <a:lnTo>
                  <a:pt x="91" y="9"/>
                </a:lnTo>
                <a:close/>
              </a:path>
            </a:pathLst>
          </a:custGeom>
          <a:solidFill>
            <a:srgbClr val="af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65840" y="3287880"/>
            <a:ext cx="12600" cy="52200"/>
          </a:xfrm>
          <a:custGeom>
            <a:avLst/>
            <a:gdLst/>
            <a:ahLst/>
            <a:rect l="l" t="t" r="r" b="b"/>
            <a:pathLst>
              <a:path w="16" h="65">
                <a:moveTo>
                  <a:pt x="11" y="60"/>
                </a:moveTo>
                <a:lnTo>
                  <a:pt x="8" y="61"/>
                </a:lnTo>
                <a:lnTo>
                  <a:pt x="7" y="62"/>
                </a:lnTo>
                <a:lnTo>
                  <a:pt x="5" y="64"/>
                </a:lnTo>
                <a:lnTo>
                  <a:pt x="4" y="65"/>
                </a:lnTo>
                <a:lnTo>
                  <a:pt x="8" y="50"/>
                </a:lnTo>
                <a:lnTo>
                  <a:pt x="11" y="35"/>
                </a:lnTo>
                <a:lnTo>
                  <a:pt x="10" y="21"/>
                </a:lnTo>
                <a:lnTo>
                  <a:pt x="4" y="9"/>
                </a:lnTo>
                <a:lnTo>
                  <a:pt x="3" y="5"/>
                </a:lnTo>
                <a:lnTo>
                  <a:pt x="1" y="2"/>
                </a:lnTo>
                <a:lnTo>
                  <a:pt x="0" y="1"/>
                </a:lnTo>
                <a:lnTo>
                  <a:pt x="0" y="0"/>
                </a:lnTo>
                <a:lnTo>
                  <a:pt x="13" y="10"/>
                </a:lnTo>
                <a:lnTo>
                  <a:pt x="16" y="23"/>
                </a:lnTo>
                <a:lnTo>
                  <a:pt x="15" y="40"/>
                </a:lnTo>
                <a:lnTo>
                  <a:pt x="11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70480" y="3954600"/>
            <a:ext cx="36720" cy="50760"/>
          </a:xfrm>
          <a:custGeom>
            <a:avLst/>
            <a:gdLst/>
            <a:ahLst/>
            <a:rect l="l" t="t" r="r" b="b"/>
            <a:pathLst>
              <a:path w="47" h="64">
                <a:moveTo>
                  <a:pt x="47" y="0"/>
                </a:moveTo>
                <a:lnTo>
                  <a:pt x="43" y="10"/>
                </a:lnTo>
                <a:lnTo>
                  <a:pt x="40" y="18"/>
                </a:lnTo>
                <a:lnTo>
                  <a:pt x="35" y="27"/>
                </a:lnTo>
                <a:lnTo>
                  <a:pt x="31" y="35"/>
                </a:lnTo>
                <a:lnTo>
                  <a:pt x="25" y="43"/>
                </a:lnTo>
                <a:lnTo>
                  <a:pt x="19" y="50"/>
                </a:lnTo>
                <a:lnTo>
                  <a:pt x="12" y="57"/>
                </a:lnTo>
                <a:lnTo>
                  <a:pt x="5" y="64"/>
                </a:lnTo>
                <a:lnTo>
                  <a:pt x="0" y="9"/>
                </a:lnTo>
                <a:lnTo>
                  <a:pt x="5" y="6"/>
                </a:lnTo>
                <a:lnTo>
                  <a:pt x="11" y="4"/>
                </a:lnTo>
                <a:lnTo>
                  <a:pt x="18" y="2"/>
                </a:lnTo>
                <a:lnTo>
                  <a:pt x="25" y="0"/>
                </a:lnTo>
                <a:lnTo>
                  <a:pt x="32" y="0"/>
                </a:lnTo>
                <a:lnTo>
                  <a:pt x="38" y="0"/>
                </a:lnTo>
                <a:lnTo>
                  <a:pt x="43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2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00800" y="259092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Part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Transp. 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28600"/>
            <a:ext cx="739116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Parte 2: Marco Politico, Normativo e Institucional de la Equidad de Género en la Gestión Muni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676520"/>
            <a:ext cx="8305920" cy="56408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arco Político.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arco Normativo.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ey de Participación Pop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ey de 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ey de Partidos Pol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ódigo Elec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Norma de Planificación Particip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457200"/>
            <a:ext cx="7239240" cy="164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e 3: Antecedentes para construir un Municipio Productivo con Equidad de Gé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209680"/>
            <a:ext cx="8001000" cy="385236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rtimos de un Contexto Gen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Feminización de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ponemos como respuesta alternativa a é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a construcción de un Municipio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ductivo...        con Equidad de Géner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21:29:43Z</dcterms:created>
  <dc:creator>Consultor5</dc:creator>
  <dc:description/>
  <dc:language>en-US</dc:language>
  <cp:lastModifiedBy>Consultor5</cp:lastModifiedBy>
  <dcterms:modified xsi:type="dcterms:W3CDTF">2002-04-01T17:13:34Z</dcterms:modified>
  <cp:revision>54</cp:revision>
  <dc:subject/>
  <dc:title>Presentación de PowerPoint</dc:title>
</cp:coreProperties>
</file>